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D12-DD12-42F9-9673-F8D86AD6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D9D-E06E-48BB-96A6-1615D308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161-EB59-474D-9A85-B6DC47A7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988-160B-448B-BD70-FAF2B56F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78D-23DD-4CC1-BA59-2FF990D0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07ED-9289-444A-8A46-7D9EA2A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0E81-760F-45FA-8373-E7F05353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06F-867B-4640-A76A-85B541C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252-B123-4B29-989C-302595E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3916-4477-41B9-8B48-E95AC23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719-6493-43E1-87DD-68612B6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3A2-E3A1-4ABE-9470-7A2441C2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013C-F7A1-493C-816A-B27A126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53F-3636-4A3D-B115-BE47681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5886-AB55-4146-AE9A-C5D7CDE2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BFD-74D2-473F-8B0E-9BB37E36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B9B-2365-49ED-A94D-11FEDAF6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B6C-836F-448A-9978-92673212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6C-1E96-476B-8AE1-FEF26D3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D1F-6771-4237-892C-66E078C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5E7-8EE1-4E3E-8806-B2FE834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05F-9E0A-4664-B75E-45F9D42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714-ADEC-456D-83CE-872DCA4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7A9-83C5-4C22-B866-2675D11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6F8-023F-4CC1-8A55-E714ACA70F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96C4-5EA6-40C9-B7C3-AB1B550266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nline.cctt.org/physicslab/content/Phy1/lessonnotes/atomic/atomicmodelsandspectra.asp" TargetMode="External"/><Relationship Id="rId2" Type="http://schemas.openxmlformats.org/officeDocument/2006/relationships/hyperlink" Target="http://micro.magnet.fsu.edu/electromag/java/rutherford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ip.org/history/electron/jjappara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4/25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Nucleus Exists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1- Ernest Rutherford uses the gold foil experiment to “discover”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4800" y="2266920"/>
            <a:ext cx="50292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Gold Foil Experi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ults of Gold Foil Experiment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online.cctt.org/physicslab/content/Phy1/lessonnotes/atomic/atomicmodelsandspectra.a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micro.magnet.fsu.edu/electromag/java/rutherfor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ver 98% of the particles went straight throu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2% of the particles went through but were deflected by large ang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ut 0.01% of the particles bounced off the gold fo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utherford’s 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5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Rutherford's Nuclear Model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The atom contains a tiny dense center called the nucle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ume is about 1/10 trillionth the volume of the at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The nucleus is essentially the entire mass of the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nucleus is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mount of positive charge of the nucleus balances the negative charge of the electr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The electrons move around in the empty space of the atom surrounding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worker James Chadwick later adds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Periodic Bloc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.0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482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 of prot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+ Neu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666880" y="3504960"/>
            <a:ext cx="243864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362320" y="2742840"/>
            <a:ext cx="2743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2320" y="2286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 20.0983 Neutrons Exist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39.0983 is an average mass of all natural K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K atoms MUST have 19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have 20 neutrons, some 19, some 21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is 20.0983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isotopes are identified by the number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Protons, Neutrons, and Electr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ine-35 (element-mass numb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of protons =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electrons = #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neutrons = mass number –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-17 =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no electrons in atomic m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has mass 1/1837 of Proton and Neu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uclear symbol no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uclide symb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   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protons =  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neu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electrons =  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95360" indent="-4903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s that a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rges and 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only changes the number of electron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66520" indent="-40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inding mass nu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use symbol, # p+ and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r periodic table IN THAT ORDER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omic Mass Uni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amu = 1/12 mass of a C-12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,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 Philosophers- 4 elements are Earth, Water, Fire, and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- first recorded atomic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continuous (no at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(400 B.C.) - first recorded atomic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smallest part of matter, each type of matter has different a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Stability- too many neutrons or protons causes instabili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nstability.jpg (45085 bytes)"/>
          <p:cNvPicPr/>
          <p:nvPr/>
        </p:nvPicPr>
        <p:blipFill>
          <a:blip r:embed="rId1"/>
          <a:srcRect l="15119" t="9927" r="16082" b="0"/>
          <a:stretch/>
        </p:blipFill>
        <p:spPr>
          <a:xfrm>
            <a:off x="1219320" y="1981080"/>
            <a:ext cx="64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emical vs. Nuclear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emical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new kinds of matter with new 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breaking and forming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rearrangement of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82680" indent="-450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uclear Chan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oduces a new nucleus that contains less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es emission or capture of nuclea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23600" indent="-3754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lished by changing PROTONS and NEUTRONS in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- rapidly moving He nuclei with a (+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– rapidly moving electrons with a (-)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– rapidly moving electromagnetic radiation with no mass or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8664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7880" y="505296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05296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5296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664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-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57880" y="4108320"/>
            <a:ext cx="2228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08320"/>
            <a:ext cx="2552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0832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logical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57880" y="329724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29724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724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(2 cm l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1925640"/>
            <a:ext cx="222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(aluminum f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925640"/>
            <a:ext cx="255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kin/clot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2564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e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8664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7880" y="1116000"/>
            <a:ext cx="2228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116000"/>
            <a:ext cx="2552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16000"/>
            <a:ext cx="1905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664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304920"/>
            <a:ext cx="2228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304920"/>
            <a:ext cx="2552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905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0492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16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256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9724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1083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97600"/>
            <a:ext cx="89154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788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6640" y="304920"/>
            <a:ext cx="0" cy="569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15400" y="304920"/>
            <a:ext cx="0" cy="569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5296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ther 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nizing Radiation- has significant energy to change atoms and molecules into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: alpha, beta, gamma, x-r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-400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ffects to living organisms: changes in, DNA (cell death/canc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30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40080" indent="-640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ionizing radiation- does not have significant energy to ionize atoms or molecules (types: microwaves, visible light, radiowa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utation- Changing the nucleus of the atom to create a new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a Nuclear Equation Writ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nuclide- initial nucleus that undergoes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nuclide- nucleus resulting from decay of pa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Nuclear Re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Emission- generally occurs if nucleus has too many protons and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a Emission- results from conversion of neutron to proton and occurs if nucleus has too many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ron Emission- results from conversion of proton to neutron and occurs if nucleus has too few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ma Emission- often accompanies other decay proce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: Alpha Dec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5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______    +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Radioactive Decay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Half-lives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fe is the time taken for half of the atoms of a radio-active substance to dec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8229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Half-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f-lives can range from a millionth of a second to millions of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83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istotle and Democrit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1981080"/>
            <a:ext cx="33832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060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2655720"/>
            <a:ext cx="810756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Radioactive Da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carbon-14 to tell age of foss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-14 is present constantly in 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.3 decays/min in living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ays/min decreases by ½ every 5370 years an organism is d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useful to 60,000 yrs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Trac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active isotopes used to track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stry/biology- pathways of re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and environment- path of groundwater, durability of contai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e- diagnose malfunctio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Reactions for Energy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sion- nucleus broken into 2 smaller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ion- smaller nuclei join to form a larger, more stable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actants and Produc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9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fuel used in a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ed re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cal mass- minimum mass to sustain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runaway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radioactive waste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osal conc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ion-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 used as f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racted from sea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a chain re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sk of runaway rea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radioactive waste: hel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blem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s temp of 200 Million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uclear Power-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enerated by a controlled 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fission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chain rea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rods- absorb neutrons to slow the chain re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cadm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ed or withdrawn to keep temp of reaction ste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780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ors- slow neutrons down so they DO hit uranium fuel r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water, beryllium, or grap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0240" indent="-4802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nded to allow neutrons to be absorbed by uraniu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267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ing and Shielding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- acts as a coolant and transfers heat between reactor and turbines that produce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 &amp; concrete- surround core and protect personnel by absorbing 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83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uclear Meltdown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rynobyl (Soviet Union, 19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away fission reaction from core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escaped to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 dead, estimated 15,000 cancer deaths in next 5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Mile Island (Pennsylvania, 197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al melt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ed before widespread dam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ong Tim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ine Lavoisier (17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periments in closed containers to develop the LC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Proust (17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d water to develop the Law of Definite Propor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Dalton (18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iled past research to develop the first useful atomic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voisier and Prou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55464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59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hn Dalt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ton’s theory had 4 major te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matter is composed of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are indivi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of 1 element are alike, but different from those of other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s combine in small, whole number ratios to form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2680" y="2232000"/>
            <a:ext cx="272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Remin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tion, Observation, Ob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, Revise hypothesis lots of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match….may become 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While Ag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7- J.J. Thomson discovers the electron using a cathode ray 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04920" y="259092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athode Ray Tube Experiment</a:t>
            </a:r>
            <a:br>
              <a:rPr sz="40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aip.org/history/electron/jjappara.htm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320" y="198108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7238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1:56:12Z</dcterms:created>
  <dc:creator>cmichene</dc:creator>
  <dc:description/>
  <dc:language>en-US</dc:language>
  <cp:lastModifiedBy>udsd</cp:lastModifiedBy>
  <dcterms:modified xsi:type="dcterms:W3CDTF">2010-11-04T12:23:30Z</dcterms:modified>
  <cp:revision>50</cp:revision>
  <dc:subject/>
  <dc:title>Chapter 2</dc:title>
</cp:coreProperties>
</file>